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15640" y="3924360"/>
            <a:ext cx="125600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640" y="3022560"/>
            <a:ext cx="12560040" cy="190512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4914720"/>
            <a:ext cx="12560040" cy="8888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635040" y="4838760"/>
            <a:ext cx="586728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635040" y="1980720"/>
            <a:ext cx="586728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75c223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75c223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ed7c26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9" name=""/>
          <p:cNvSpPr/>
          <p:nvPr/>
        </p:nvSpPr>
        <p:spPr>
          <a:xfrm>
            <a:off x="11861640" y="216000"/>
            <a:ext cx="1041480" cy="9321840"/>
          </a:xfrm>
          <a:prstGeom prst="rect">
            <a:avLst/>
          </a:prstGeom>
          <a:solidFill>
            <a:srgbClr val="ed7c26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7772040" y="2286000"/>
            <a:ext cx="396252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5227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81612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1095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402920" indent="-34668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695960" indent="-34632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695960" indent="-34632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5316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67112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08908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50668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8268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7272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171880" indent="-57168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616120" indent="-5713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616120" indent="-571320">
              <a:spcBef>
                <a:spcPts val="24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0261440" y="241200"/>
            <a:ext cx="2514600" cy="9283680"/>
            <a:chOff x="10261440" y="241200"/>
            <a:chExt cx="2514600" cy="9283680"/>
          </a:xfrm>
        </p:grpSpPr>
        <p:sp>
          <p:nvSpPr>
            <p:cNvPr id="115" name=""/>
            <p:cNvSpPr/>
            <p:nvPr/>
          </p:nvSpPr>
          <p:spPr>
            <a:xfrm>
              <a:off x="10261440" y="2730240"/>
              <a:ext cx="2514600" cy="6794640"/>
            </a:xfrm>
            <a:prstGeom prst="rect">
              <a:avLst/>
            </a:prstGeom>
            <a:solidFill>
              <a:srgbClr val="edb60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ffffff"/>
                  </a:solidFill>
                  <a:latin typeface="Futura"/>
                  <a:ea typeface="Futura"/>
                </a:rPr>
                <a:t> </a:t>
              </a:r>
              <a:endParaRPr b="0" lang="en-US" sz="4300" spc="-1" strike="noStrike">
                <a:solidFill>
                  <a:srgbClr val="727272"/>
                </a:solidFill>
                <a:latin typeface="Futur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261440" y="241200"/>
              <a:ext cx="2514600" cy="2502000"/>
            </a:xfrm>
            <a:prstGeom prst="rect">
              <a:avLst/>
            </a:prstGeom>
            <a:solidFill>
              <a:srgbClr val="48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Futur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250200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9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25316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67112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2089080" indent="-53712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506680" indent="-536760"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506680" indent="-536760">
              <a:spcBef>
                <a:spcPts val="1049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>
              <a:spcBef>
                <a:spcPts val="9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>
              <a:spcBef>
                <a:spcPts val="9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1" marL="117972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2" marL="158904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3" marL="19980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4" marL="2406600" indent="-525600">
              <a:spcBef>
                <a:spcPts val="42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5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lvl="6" marL="2406600" indent="-525600">
              <a:spcBef>
                <a:spcPts val="42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504180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91476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24380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1572840" indent="-3888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1901520" indent="-3884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1901520" indent="-3884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1" marL="123660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2" marL="16812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3" marL="2125800" indent="-52560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4" marL="2570040" indent="-525240">
              <a:spcBef>
                <a:spcPts val="35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5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  <a:p>
            <a:pPr lvl="6" marL="2570040" indent="-525240">
              <a:spcBef>
                <a:spcPts val="3501"/>
              </a:spcBef>
              <a:buClr>
                <a:srgbClr val="727272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1040" y="1523880"/>
            <a:ext cx="11290320" cy="30736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ff"/>
                </a:solidFill>
                <a:latin typeface="Capitals"/>
                <a:ea typeface="Capitals"/>
              </a:rPr>
              <a:t>Jeopardy</a:t>
            </a:r>
            <a:br>
              <a:rPr sz="14400"/>
            </a:br>
            <a:r>
              <a:rPr b="0" lang="en-US" sz="2400" spc="-1" strike="noStrike">
                <a:solidFill>
                  <a:srgbClr val="0000ff"/>
                </a:solidFill>
                <a:latin typeface="Capitals"/>
                <a:ea typeface="Capitals"/>
              </a:rPr>
              <a:t>Probability Vocabulary Edi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15640" y="4915080"/>
            <a:ext cx="12560040" cy="129528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with your host 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urier New"/>
                <a:ea typeface="Courier New"/>
              </a:rPr>
              <a:t>Stephanie Schidel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96" name=""/>
          <p:cNvSpPr/>
          <p:nvPr/>
        </p:nvSpPr>
        <p:spPr>
          <a:xfrm>
            <a:off x="5260680" y="1142640"/>
            <a:ext cx="1886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This is...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127080"/>
            <a:ext cx="11010960" cy="18921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Unlikely Situation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2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15892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in Flips have a known likelihood of occurrence. Which is what concept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5030640" y="3911760"/>
            <a:ext cx="2934000" cy="33908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2868480" y="8064360"/>
            <a:ext cx="725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What is Theoretical Probability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177840"/>
            <a:ext cx="11010960" cy="185400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Unlikely Situations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3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7" name=""/>
          <p:cNvSpPr/>
          <p:nvPr/>
        </p:nvSpPr>
        <p:spPr>
          <a:xfrm>
            <a:off x="1664280" y="3111120"/>
            <a:ext cx="946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27272"/>
                </a:solidFill>
                <a:latin typeface="Futura"/>
                <a:ea typeface="Futura"/>
              </a:rPr>
              <a:t>The picture below shows what concept?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28" name=""/>
          <p:cNvSpPr/>
          <p:nvPr/>
        </p:nvSpPr>
        <p:spPr>
          <a:xfrm>
            <a:off x="2458080" y="8331120"/>
            <a:ext cx="828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What is The Probability Continuum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888840" y="4254480"/>
            <a:ext cx="114300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rcRect l="0" t="22758" r="0" b="22706"/>
          <a:stretch/>
        </p:blipFill>
        <p:spPr>
          <a:xfrm>
            <a:off x="272880" y="2789280"/>
            <a:ext cx="9975960" cy="67485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240" y="241200"/>
            <a:ext cx="10032840" cy="1765440"/>
          </a:xfrm>
          <a:prstGeom prst="rect">
            <a:avLst/>
          </a:prstGeom>
          <a:solidFill>
            <a:srgbClr val="75c22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ffffff"/>
                </a:solidFill>
                <a:latin typeface="Futura"/>
              </a:rPr>
              <a:t>Final Jeopardy!</a:t>
            </a:r>
            <a:endParaRPr b="0" lang="en-US" sz="85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32" name=""/>
          <p:cNvSpPr/>
          <p:nvPr/>
        </p:nvSpPr>
        <p:spPr>
          <a:xfrm>
            <a:off x="10275840" y="431640"/>
            <a:ext cx="25653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Futura"/>
                <a:ea typeface="Futura"/>
              </a:rPr>
              <a:t>Make your Wagers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3" name=""/>
          <p:cNvSpPr/>
          <p:nvPr/>
        </p:nvSpPr>
        <p:spPr>
          <a:xfrm>
            <a:off x="254160" y="2806560"/>
            <a:ext cx="100202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"/>
                <a:ea typeface="Futura"/>
              </a:rPr>
              <a:t>The game  of Quidditch can lend itself to creating a __________ to explore the likelihood of winning.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"/>
                <a:ea typeface="Futura"/>
              </a:rPr>
              <a:t>Sums of two dice can be linked to Quidditch actions: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  <a:ea typeface="Futura"/>
              </a:rPr>
              <a:t>-role a 7 means Quaffle scores (10 points)</a:t>
            </a:r>
            <a:endParaRPr b="0" lang="en-US" sz="28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  <a:ea typeface="Futura"/>
              </a:rPr>
              <a:t>-role of 2 or 12 means Snitch caught; end game (150  points)</a:t>
            </a:r>
            <a:endParaRPr b="0" lang="en-US" sz="28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  <a:ea typeface="Futura"/>
              </a:rPr>
              <a:t>-role of 3,5,9,11 means Bludger hit (lose a turn)</a:t>
            </a:r>
            <a:endParaRPr b="0" lang="en-US" sz="2800" spc="-1" strike="noStrike">
              <a:solidFill>
                <a:srgbClr val="727272"/>
              </a:solidFill>
              <a:latin typeface="Futu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"/>
                <a:ea typeface="Futura"/>
              </a:rPr>
              <a:t>-role of 4,6,8,10 mean Bludger dodged (no points)</a:t>
            </a:r>
            <a:endParaRPr b="0" lang="en-US" sz="28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4" name=""/>
          <p:cNvSpPr/>
          <p:nvPr/>
        </p:nvSpPr>
        <p:spPr>
          <a:xfrm>
            <a:off x="11144160" y="2711520"/>
            <a:ext cx="533520" cy="68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S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I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MU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L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A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T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I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80"/>
                </a:solidFill>
                <a:latin typeface="Futura"/>
                <a:ea typeface="Futura"/>
              </a:rPr>
              <a:t>ON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5" name=""/>
          <p:cNvSpPr/>
          <p:nvPr/>
        </p:nvSpPr>
        <p:spPr>
          <a:xfrm>
            <a:off x="1990080" y="2095200"/>
            <a:ext cx="649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ff"/>
                </a:solidFill>
                <a:latin typeface="Futura"/>
                <a:ea typeface="Futura"/>
              </a:rPr>
              <a:t>Category: Classroom Game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6" name=""/>
          <p:cNvSpPr/>
          <p:nvPr/>
        </p:nvSpPr>
        <p:spPr>
          <a:xfrm>
            <a:off x="2646000" y="9146160"/>
            <a:ext cx="518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Handwriting - Dakota"/>
                <a:ea typeface="Handwriting - Dakota"/>
              </a:rPr>
              <a:t>Hit: This is a technique for a real world situation.</a:t>
            </a:r>
            <a:endParaRPr b="0" lang="en-US" sz="18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5640" y="3924360"/>
            <a:ext cx="12560040" cy="1905120"/>
          </a:xfrm>
          <a:prstGeom prst="rect">
            <a:avLst/>
          </a:prstGeom>
          <a:solidFill>
            <a:srgbClr val="db3d8a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Futura"/>
              </a:rPr>
              <a:t>End of Game</a:t>
            </a:r>
            <a:endParaRPr b="0" lang="en-US" sz="9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38" name=""/>
          <p:cNvSpPr/>
          <p:nvPr/>
        </p:nvSpPr>
        <p:spPr>
          <a:xfrm>
            <a:off x="2351160" y="5835600"/>
            <a:ext cx="8292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9c9224"/>
                </a:solidFill>
                <a:latin typeface="Futura"/>
                <a:ea typeface="Futura"/>
              </a:rPr>
              <a:t>Everyones a Winner!</a:t>
            </a:r>
            <a:endParaRPr b="0" lang="en-US" sz="6400" spc="-1" strike="noStrike">
              <a:solidFill>
                <a:srgbClr val="727272"/>
              </a:solidFill>
              <a:latin typeface="Futura"/>
            </a:endParaRPr>
          </a:p>
        </p:txBody>
      </p:sp>
      <p:sp>
        <p:nvSpPr>
          <p:cNvPr id="539" name=""/>
          <p:cNvSpPr/>
          <p:nvPr/>
        </p:nvSpPr>
        <p:spPr>
          <a:xfrm>
            <a:off x="4305240" y="3162240"/>
            <a:ext cx="39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ff"/>
                </a:solidFill>
                <a:latin typeface="Futura"/>
                <a:ea typeface="Futura"/>
              </a:rPr>
              <a:t>Congratulations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6004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Heres Our Categories...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003320" y="2540160"/>
          <a:ext cx="10985400" cy="6146640"/>
        </p:xfrm>
        <a:graphic>
          <a:graphicData uri="http://schemas.openxmlformats.org/drawingml/2006/table">
            <a:tbl>
              <a:tblPr/>
              <a:tblGrid>
                <a:gridCol w="3660840"/>
                <a:gridCol w="3662280"/>
                <a:gridCol w="3662280"/>
              </a:tblGrid>
              <a:tr h="153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727272"/>
                          </a:solidFill>
                          <a:latin typeface="Palatino"/>
                          <a:ea typeface="ヒラギノ明朝 ProN W3"/>
                        </a:rPr>
                        <a:t>Frequently Defined Sentence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727272"/>
                          </a:solidFill>
                          <a:latin typeface="Palatino"/>
                          <a:ea typeface="ヒラギノ明朝 ProN W3"/>
                        </a:rPr>
                        <a:t>Chance the Word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727272"/>
                          </a:solidFill>
                          <a:latin typeface="Palatino"/>
                          <a:ea typeface="ヒラギノ明朝 ProN W3"/>
                        </a:rPr>
                        <a:t>Likely/Unlikely Situations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1" action="ppaction://hlinksldjump"/>
                        </a:rPr>
                        <a:t>1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2" action="ppaction://hlinksldjump"/>
                        </a:rPr>
                        <a:t>1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3" action="ppaction://hlinksldjump"/>
                        </a:rPr>
                        <a:t>1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4" action="ppaction://hlinksldjump"/>
                        </a:rPr>
                        <a:t>2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5" action="ppaction://hlinksldjump"/>
                        </a:rPr>
                        <a:t>2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6" action="ppaction://hlinksldjump"/>
                        </a:rPr>
                        <a:t>2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7" action="ppaction://hlinksldjump"/>
                        </a:rPr>
                        <a:t>3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8" action="ppaction://hlinksldjump"/>
                        </a:rPr>
                        <a:t>3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 u="sng">
                          <a:solidFill>
                            <a:srgbClr val="009999"/>
                          </a:solidFill>
                          <a:uFillTx/>
                          <a:latin typeface="Palatino"/>
                          <a:ea typeface="ヒラギノ明朝 ProN W3"/>
                          <a:hlinkClick r:id="rId9" action="ppaction://hlinksldjump"/>
                        </a:rPr>
                        <a:t>3</a:t>
                      </a:r>
                      <a:endParaRPr b="0" lang="en-US" sz="3000" spc="-1" strike="noStrike">
                        <a:solidFill>
                          <a:srgbClr val="727272"/>
                        </a:solidFill>
                        <a:latin typeface="Futura"/>
                      </a:endParaRPr>
                    </a:p>
                  </a:txBody>
                  <a:tcPr anchor="ctr" marL="50760" marR="50760">
                    <a:lnL w="12240">
                      <a:solidFill>
                        <a:srgbClr val="adadad"/>
                      </a:solidFill>
                    </a:lnL>
                    <a:lnR w="12240">
                      <a:solidFill>
                        <a:srgbClr val="adadad"/>
                      </a:solidFill>
                    </a:lnR>
                    <a:lnT w="12240">
                      <a:solidFill>
                        <a:srgbClr val="adadad"/>
                      </a:solidFill>
                    </a:lnT>
                    <a:lnB w="12240">
                      <a:solidFill>
                        <a:srgbClr val="adad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4731120" y="8785080"/>
            <a:ext cx="3506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0" action="ppaction://hlinksldjump"/>
              </a:rPr>
              <a:t>Final Jeopardy!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2240"/>
            <a:ext cx="11010960" cy="193068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Probable Defined Sentence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1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Experimentation-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Conducting a sufficiently large number of trails to become confident that the resulting relative frequency is an approximation of the ______ probability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2" name=""/>
          <p:cNvSpPr/>
          <p:nvPr/>
        </p:nvSpPr>
        <p:spPr>
          <a:xfrm>
            <a:off x="4042080" y="7540560"/>
            <a:ext cx="4554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is Theoretical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202680"/>
            <a:ext cx="11010960" cy="189252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Probable Defined Sentence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2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1955880"/>
            <a:ext cx="1101096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e Phenomenon that the relative frequency becomes a____ approximation of the actual probability or the theoretical probability as the size of the data set (sample) _____is referred to a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- Law of the Large Numbers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5" name=""/>
          <p:cNvSpPr/>
          <p:nvPr/>
        </p:nvSpPr>
        <p:spPr>
          <a:xfrm>
            <a:off x="1155600" y="7550280"/>
            <a:ext cx="10337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are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1. Close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2" action="ppaction://hlinksldjump"/>
              </a:rPr>
              <a:t>r             2. Increase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3" action="ppaction://hlinksldjump"/>
              </a:rPr>
              <a:t>       </a:t>
            </a: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   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101160"/>
            <a:ext cx="11010960" cy="191772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Probable Defined Sentence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3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Simulation-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-571320">
              <a:lnSpc>
                <a:spcPct val="100000"/>
              </a:lnSpc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Is a _____ used for answering _____ questions or making decisions in complex _______ where an element of chance is involved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08" name=""/>
          <p:cNvSpPr/>
          <p:nvPr/>
        </p:nvSpPr>
        <p:spPr>
          <a:xfrm>
            <a:off x="1700280" y="7486560"/>
            <a:ext cx="9728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are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1.Techni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2" action="ppaction://hlinksldjump"/>
              </a:rPr>
              <a:t>que   2.Real-World   3.Situation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3" action="ppaction://hlinksldjump"/>
              </a:rPr>
              <a:t>s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114120"/>
            <a:ext cx="11010960" cy="19047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hance the Word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1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The occurrence or nonoccurrence of one event has no effect on the other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1" name=""/>
          <p:cNvSpPr/>
          <p:nvPr/>
        </p:nvSpPr>
        <p:spPr>
          <a:xfrm>
            <a:off x="3150360" y="7921440"/>
            <a:ext cx="66927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is Independent events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101160"/>
            <a:ext cx="11010960" cy="189252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hance the Word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2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Occurs when the second event depends on the result of the first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4" name=""/>
          <p:cNvSpPr/>
          <p:nvPr/>
        </p:nvSpPr>
        <p:spPr>
          <a:xfrm>
            <a:off x="2792520" y="7543800"/>
            <a:ext cx="741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is Dependent</a:t>
            </a:r>
            <a:r>
              <a:rPr b="0" lang="en-US" sz="4000" spc="-1" strike="noStrike" u="sng">
                <a:solidFill>
                  <a:srgbClr val="727272"/>
                </a:solidFill>
                <a:uFillTx/>
                <a:latin typeface="Futura"/>
                <a:ea typeface="Futura"/>
              </a:rPr>
              <a:t> Events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127080"/>
            <a:ext cx="11010960" cy="189216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Chance the Word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3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286000"/>
            <a:ext cx="10464840" cy="665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 measure of the chance of an event occurring.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517" name=""/>
          <p:cNvSpPr/>
          <p:nvPr/>
        </p:nvSpPr>
        <p:spPr>
          <a:xfrm>
            <a:off x="4265280" y="7870680"/>
            <a:ext cx="4462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1" action="ppaction://hlinksldjump"/>
              </a:rPr>
              <a:t>What is Probability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11010960" cy="1955520"/>
          </a:xfrm>
          <a:prstGeom prst="rect">
            <a:avLst/>
          </a:prstGeom>
          <a:solidFill>
            <a:srgbClr val="7249e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Unlikely Situation</a:t>
            </a:r>
            <a:br>
              <a:rPr sz="7900"/>
            </a:br>
            <a:r>
              <a:rPr b="0" lang="en-US" sz="7900" spc="-1" strike="noStrike">
                <a:solidFill>
                  <a:srgbClr val="ffffff"/>
                </a:solidFill>
                <a:latin typeface="Futura"/>
              </a:rPr>
              <a:t>1 </a:t>
            </a: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9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4720" y="2349000"/>
            <a:ext cx="11569680" cy="642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7249e3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27272"/>
                </a:solidFill>
                <a:latin typeface="Palatino"/>
              </a:rPr>
              <a:t>A basketball player’s likelihood of making free throws in a game (based on the player’s previous record). Which is what concept?</a:t>
            </a: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27272"/>
              </a:solidFill>
              <a:latin typeface="Palatino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76600" y="4989600"/>
            <a:ext cx="4051440" cy="26542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554280" y="8061120"/>
            <a:ext cx="5351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Futura"/>
                <a:ea typeface="Futura"/>
                <a:hlinkClick r:id="rId2" action="ppaction://hlinksldjump"/>
              </a:rPr>
              <a:t>What is Empirical Data</a:t>
            </a:r>
            <a:endParaRPr b="0" lang="en-US" sz="4000" spc="-1" strike="noStrike">
              <a:solidFill>
                <a:srgbClr val="727272"/>
              </a:solidFill>
              <a:latin typeface="Futu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